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83D-6B3C-45C7-A1B1-4CC0977B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73A-2916-4F0A-BF72-3A3DEB15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10C-FA82-48EA-9CB8-05D77B42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51FA-02DE-48DA-B761-3C9802DE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108-5434-4320-911B-45ADE62A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D59-9719-48E2-B1EF-862ECBA9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9ED-0133-4CB9-808D-127BF2E7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1DD-418B-4971-8892-F0A336BA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960-83A7-45B4-ACD6-86D1233A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602-8420-4B77-8778-7E9F3DD9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E11-9D63-4EBF-8269-A1422DFE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F1A-B9E7-4346-837E-873BA35A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D8AE-5430-4433-AAC8-6D7BFD83647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atr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Gillian Clar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4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nfro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nviron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isinf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fi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ce-to-face fight or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lating to surroundings, especially as they affect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eaned to destroy g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enly disobedient or ang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sso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nomatopoe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xymor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32000" y="1557360"/>
            <a:ext cx="54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ated use of the same consonant in a phrase or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tition of the same vowel sounds in close proximity to one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s that sound like their mea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arison of two seemingly contradictory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4T09:47:23Z</dcterms:modified>
  <cp:revision>38</cp:revision>
  <dc:subject/>
  <dc:title>La Belle Dame Sans Merci</dc:title>
</cp:coreProperties>
</file>